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26520" y="304920"/>
            <a:ext cx="6085080" cy="456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15800" y="5213160"/>
            <a:ext cx="5889600" cy="36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0" y="9580680"/>
            <a:ext cx="673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E209EFF-8313-4F88-B5BE-FE0A026D1CB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6880" y="304920"/>
            <a:ext cx="6085080" cy="4564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15800" y="5213160"/>
            <a:ext cx="5889600" cy="36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slide should show how we see Selen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6880" y="304920"/>
            <a:ext cx="6085080" cy="4564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15800" y="5213160"/>
            <a:ext cx="5889600" cy="36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slide should show how we see Selen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6360" y="101520"/>
            <a:ext cx="85327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06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0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06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0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6360" y="101520"/>
            <a:ext cx="85327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6364440"/>
            <a:ext cx="9144000" cy="492120"/>
            <a:chOff x="3240" y="6364440"/>
            <a:chExt cx="9144000" cy="492120"/>
          </a:xfrm>
        </p:grpSpPr>
        <p:sp>
          <p:nvSpPr>
            <p:cNvPr id="2" name=""/>
            <p:cNvSpPr/>
            <p:nvPr/>
          </p:nvSpPr>
          <p:spPr>
            <a:xfrm>
              <a:off x="8329680" y="6454800"/>
              <a:ext cx="639720" cy="287280"/>
            </a:xfrm>
            <a:custGeom>
              <a:avLst/>
              <a:gdLst/>
              <a:ahLst/>
              <a:rect l="l" t="t" r="r" b="b"/>
              <a:pathLst>
                <a:path w="403" h="181">
                  <a:moveTo>
                    <a:pt x="0" y="10"/>
                  </a:moveTo>
                  <a:lnTo>
                    <a:pt x="0" y="181"/>
                  </a:lnTo>
                  <a:lnTo>
                    <a:pt x="268" y="181"/>
                  </a:lnTo>
                  <a:lnTo>
                    <a:pt x="403" y="41"/>
                  </a:lnTo>
                  <a:lnTo>
                    <a:pt x="377" y="10"/>
                  </a:lnTo>
                  <a:lnTo>
                    <a:pt x="5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3240" y="6364440"/>
            <a:ext cx="9144000" cy="49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6364440"/>
                      <a:ext cx="914400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312840" y="6649920"/>
            <a:ext cx="357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adbfd7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adbfd7"/>
                </a:solidFill>
                <a:latin typeface="Arial"/>
              </a:rPr>
              <a:t>SAP AG</a:t>
            </a:r>
            <a:r>
              <a:rPr b="0" lang="de-DE" sz="800" spc="-1" strike="noStrike">
                <a:solidFill>
                  <a:srgbClr val="adbfd7"/>
                </a:solidFill>
                <a:latin typeface="Arial"/>
              </a:rPr>
              <a:t> 2001</a:t>
            </a:r>
            <a:r>
              <a:rPr b="0" lang="en-US" sz="800" spc="-1" strike="noStrike">
                <a:solidFill>
                  <a:srgbClr val="adbfd7"/>
                </a:solidFill>
                <a:latin typeface="Arial"/>
              </a:rPr>
              <a:t>, Selena Extension, chb, el, mm  </a:t>
            </a:r>
            <a:fld id="{85BE2B38-3732-458D-8749-2154C61DFEC0}" type="slidenum">
              <a:rPr b="0" lang="en-US" sz="800" spc="-1" strike="noStrike">
                <a:solidFill>
                  <a:srgbClr val="adbfd7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3240" y="22474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6566040"/>
          <a:ext cx="914400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66040"/>
                    <a:ext cx="91440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38088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861840" algn="ctr"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24308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ristian.brand@sap.com" TargetMode="External"/><Relationship Id="rId2" Type="http://schemas.openxmlformats.org/officeDocument/2006/relationships/hyperlink" Target="mailto:christian.brand@sap.com" TargetMode="External"/><Relationship Id="rId3" Type="http://schemas.openxmlformats.org/officeDocument/2006/relationships/hyperlink" Target="mailto:christian.brand@sap.com" TargetMode="External"/><Relationship Id="rId4" Type="http://schemas.openxmlformats.org/officeDocument/2006/relationships/hyperlink" Target="mailto:christian.brand@sap.com" TargetMode="External"/><Relationship Id="rId5" Type="http://schemas.openxmlformats.org/officeDocument/2006/relationships/hyperlink" Target="mailto:christian.brand@sap.com" TargetMode="External"/><Relationship Id="rId6" Type="http://schemas.openxmlformats.org/officeDocument/2006/relationships/hyperlink" Target="mailto:eckart.langhuth@sap.com" TargetMode="External"/><Relationship Id="rId7" Type="http://schemas.openxmlformats.org/officeDocument/2006/relationships/hyperlink" Target="mailto:eckart.langhuth@sap.com" TargetMode="External"/><Relationship Id="rId8" Type="http://schemas.openxmlformats.org/officeDocument/2006/relationships/hyperlink" Target="mailto:eckart.langhuth@sap.com" TargetMode="External"/><Relationship Id="rId9" Type="http://schemas.openxmlformats.org/officeDocument/2006/relationships/hyperlink" Target="mailto:eckart.langhuth@sap.com" TargetMode="External"/><Relationship Id="rId10" Type="http://schemas.openxmlformats.org/officeDocument/2006/relationships/hyperlink" Target="mailto:eckart.langhuth@sap.com" TargetMode="External"/><Relationship Id="rId11" Type="http://schemas.openxmlformats.org/officeDocument/2006/relationships/hyperlink" Target="mailto:eckart.langhuth@sap.com" TargetMode="External"/><Relationship Id="rId12" Type="http://schemas.openxmlformats.org/officeDocument/2006/relationships/hyperlink" Target="mailto:eckart.langhuth@sap.com" TargetMode="External"/><Relationship Id="rId13" Type="http://schemas.openxmlformats.org/officeDocument/2006/relationships/hyperlink" Target="mailto:matthias.metzler@sap.com" TargetMode="External"/><Relationship Id="rId14" Type="http://schemas.openxmlformats.org/officeDocument/2006/relationships/hyperlink" Target="mailto:matthias.metzler@sap.com" TargetMode="External"/><Relationship Id="rId15" Type="http://schemas.openxmlformats.org/officeDocument/2006/relationships/hyperlink" Target="mailto:matthias.metzler@sap.com" TargetMode="External"/><Relationship Id="rId16" Type="http://schemas.openxmlformats.org/officeDocument/2006/relationships/hyperlink" Target="mailto:matthias.metzler@sap.com" TargetMode="External"/><Relationship Id="rId17" Type="http://schemas.openxmlformats.org/officeDocument/2006/relationships/hyperlink" Target="mailto:matthias.metzler@sap.com" TargetMode="External"/><Relationship Id="rId18" Type="http://schemas.openxmlformats.org/officeDocument/2006/relationships/hyperlink" Target="mailto:matthias.metzler@sap.com" TargetMode="External"/><Relationship Id="rId19" Type="http://schemas.openxmlformats.org/officeDocument/2006/relationships/hyperlink" Target="mailto:matthias.metzler@sap.com" TargetMode="External"/><Relationship Id="rId2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3240" y="17442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000000"/>
                </a:solidFill>
                <a:latin typeface="Arial Black"/>
              </a:rPr>
              <a:t>Selena Extension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88840" y="5500440"/>
            <a:ext cx="715968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ristian Brand (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"/>
              </a:rPr>
              <a:t>christian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2"/>
              </a:rPr>
              <a:t>.brand@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3"/>
              </a:rPr>
              <a:t>sap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4"/>
              </a:rPr>
              <a:t>.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5"/>
              </a:rPr>
              <a:t>co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ckart Langhuth (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6"/>
              </a:rPr>
              <a:t>eckart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7"/>
              </a:rPr>
              <a:t>.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8"/>
              </a:rPr>
              <a:t>langhuth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9"/>
              </a:rPr>
              <a:t>@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0"/>
              </a:rPr>
              <a:t>sap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1"/>
              </a:rPr>
              <a:t>.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2"/>
              </a:rPr>
              <a:t>co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thias Metzler (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3"/>
              </a:rPr>
              <a:t>matthias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4"/>
              </a:rPr>
              <a:t>.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5"/>
              </a:rPr>
              <a:t>metzler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6"/>
              </a:rPr>
              <a:t>@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7"/>
              </a:rPr>
              <a:t>sap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8"/>
              </a:rPr>
              <a:t>.</a:t>
            </a:r>
            <a:r>
              <a:rPr b="1" lang="de-DE" sz="1800" spc="-1" strike="noStrike" u="sng">
                <a:solidFill>
                  <a:srgbClr val="273c83"/>
                </a:solidFill>
                <a:uFillTx/>
                <a:latin typeface="Arial"/>
                <a:hlinkClick r:id="rId19"/>
              </a:rPr>
              <a:t>co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59000" y="3413160"/>
            <a:ext cx="6400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deas, Concepts, Requests, Discussion Bas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36576" t="16205" r="16784" b="14661"/>
          <a:stretch/>
        </p:blipFill>
        <p:spPr>
          <a:xfrm>
            <a:off x="165240" y="723960"/>
            <a:ext cx="5118120" cy="5689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Filter Concept - Interfac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360" y="914400"/>
            <a:ext cx="349236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ilters can have names (?)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ilters can be inverted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ilter can be asked for general availability of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PropertyMap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Property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ReferenceContainer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UniqueNam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ilter can be asked for availability of navigation path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child entity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parent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participant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... (all navigation paths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Filter Concept - Structur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55920" y="812880"/>
            <a:ext cx="3771720" cy="55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...() means all the availability checking method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ilters can be composed in Filter Sets (composite)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ilter Sets can be of type OR or AND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Default implementations are ready for use</a:t>
            </a:r>
            <a:br>
              <a:rPr sz="2000"/>
            </a:b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YesManFilter (single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NoManFilter (single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MutableFilterSet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Filters can be subclassed or created by Filter Factory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4080" y="1128600"/>
          <a:ext cx="491940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128600"/>
                    <a:ext cx="491940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Selena Framework – Our 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Generic Data Model Tree View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 Concep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Filtered Data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Programming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Questions, Discussion, ..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Filtered Data Model Framework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41907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Every Environment, that works on top of Element Model API should also work on Filtered Element Model API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Filtered Element delegates calls to Selena Element and modifies answer after requesting filter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Multiple Instances of Filtered Data Model Framework possibl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Filtered Data Model Framework contains no caching functionality (delegation-only implemantation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4120" y="484200"/>
          <a:ext cx="3861000" cy="63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84200"/>
                    <a:ext cx="386100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4749840" y="3224160"/>
            <a:ext cx="4248000" cy="3178080"/>
            <a:chOff x="4749840" y="3224160"/>
            <a:chExt cx="4248000" cy="3178080"/>
          </a:xfrm>
        </p:grpSpPr>
        <p:sp>
          <p:nvSpPr>
            <p:cNvPr id="129" name=""/>
            <p:cNvSpPr/>
            <p:nvPr/>
          </p:nvSpPr>
          <p:spPr>
            <a:xfrm>
              <a:off x="4749840" y="3224160"/>
              <a:ext cx="4248000" cy="3178080"/>
            </a:xfrm>
            <a:prstGeom prst="rect">
              <a:avLst/>
            </a:prstGeom>
            <a:solidFill>
              <a:srgbClr val="ffffff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5921280" y="3373560"/>
            <a:ext cx="1833480" cy="293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1280" y="3373560"/>
                      <a:ext cx="1833480" cy="29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Selena Framework – Our 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Generic Data Model Tree View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 Concep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ed Data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Programming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Questions, Discussion, ..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Programming Model for Tool Developer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What can we recommend our tool developers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How can we support them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What has to be built to support them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...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Idea: Data Source Managemen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stores table to map between unique name and data source (</a:t>
            </a:r>
            <a:r>
              <a:rPr b="1" i="1" lang="de-DE" sz="1800" spc="-1" strike="noStrike">
                <a:solidFill>
                  <a:srgbClr val="333333"/>
                </a:solidFill>
                <a:latin typeface="Arial"/>
              </a:rPr>
              <a:t>Object</a:t>
            </a: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create and add new unique name from data sourc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check if unique name already included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get corresponding data source to unique nam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41249" t="29345" r="27011" b="62663"/>
          <a:stretch/>
        </p:blipFill>
        <p:spPr>
          <a:xfrm>
            <a:off x="1467000" y="4795920"/>
            <a:ext cx="5924520" cy="108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Programming Model – Example Implementatio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03800" y="914040"/>
            <a:ext cx="453528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Data Source Management can be accessed by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Providers,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Filter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Tree Viewer‘s Label Provider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This is the way they can get access to the Data Source Object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Data Source Management can create Unique Names for Provider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7840" y="546120"/>
          <a:ext cx="3854520" cy="62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546120"/>
                    <a:ext cx="3854520" cy="62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Selena Framework – Our 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Generic Data Model Tree View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 Concep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ed Data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Programming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Questions, Discussion, ..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25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roblem: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25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stributed Provider development leading to “congested, overcrowded” models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25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: (Using Selena)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ask 1: Implementation of “Eclipse” Package View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ask 2: Implementation of “Eclipse” Navigator View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oth will need an Entity representing the Folder “src”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1 provides Entity with UniqueName model:packView://src/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2 provides Entity with UniqueName model:navView://src/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nother possible way to provide the model data for Task 1,2 may be that a known provider already provides the folder structure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s will lead to dependent Providers because the Providers for Task 1,2 will work only if the “known” Provider is active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o avoid dependencies each tool has to provide all of its data itself. (Maybe including the underlying project model)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hat kind of “Provider programming guidelines” follows from this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Selena Framework – Our 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Generic Data Model Tree View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Filter Concep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Filtered Data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Programming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Questions, Discussion, ..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Questions 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25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“overcrowded” models, tools have to identify “their” relevant data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 small example is the current implementation of the UML Navigator: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3800" y="2611440"/>
            <a:ext cx="8094600" cy="1952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4937040"/>
            <a:ext cx="809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9360" y="4780080"/>
            <a:ext cx="8070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not relevant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ML-Navigator fails, trying to show the data from a model created by the “File and Folder” View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380880">
              <a:spcBef>
                <a:spcPts val="225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rovider principle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5360" indent="-380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moving class ProvidersAccess used to avoid programmatic adding, removing Providers? Why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380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hort explanation of Provider registration logic?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deas? Binding of Providers to models, domains, subdomains, … 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Extension Point Schema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95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Infrastructure/Organization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How to structure/move sources in perforce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Who drives which subjects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Perforce sources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.classpath and .project files allways writeable on client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project dependencies to projects not to libraries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info.xml files for every subproject (contains the responsible developers, that receive mails on build problems)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Technical Subject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Discussion!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7140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thers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How to realize Object valued Properties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mage &lt;-&gt; Element binding?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Double domain definition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l &lt;-&gt; Project binding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ocation of metadata. (e.g diagram.xml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pository tree. Semantic view in Team Perspective based on the same (filtered) model (same view?) as standard browser view!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sage of internal packages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Eclipse Source changes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Selena Framework – Our 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Generic Data Model Tree View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 Concep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ed Data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Programming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Questions, Discussion, ..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Selena Framework – Our View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419076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69560" indent="-5616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Selena Framework offers generic Element Model API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9560" indent="-5616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Environment can communicate with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64560" indent="-287280"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Elements,... and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664560" indent="-287280"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Model Management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9560" indent="-5616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Model Management creates Elements,... on demand and provides caching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9560" indent="-5616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Selena Framework gets all the needed information through Providers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9560" indent="-5616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Data modification is possible through Change (Delta) Providers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9560" indent="-56160"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Selena Framework can also be notified about data changes through (Delta) Providers (not yet in picture)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63600" y="738360"/>
          <a:ext cx="3503520" cy="57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738360"/>
                    <a:ext cx="3503520" cy="57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Element Model API – Our View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9880" y="593640"/>
          <a:ext cx="845028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593640"/>
                    <a:ext cx="845028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82520" y="646200"/>
            <a:ext cx="4191120" cy="2601720"/>
          </a:xfrm>
          <a:prstGeom prst="rect">
            <a:avLst/>
          </a:prstGeom>
          <a:solidFill>
            <a:srgbClr val="ffffff">
              <a:alpha val="80000"/>
            </a:srgbClr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Dotted arrows show „navigation path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A Container can be asked for child entities and supplies Entities (EntityEnume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An Element can be asked for model and supplies a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Selena Framework – Our 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Generic Data Model Tree View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 Concep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ed Data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Programming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Questions, Discussion, ..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Generic Data Model Tree Viewe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41907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Generic Data Model Tree Viewer visualizes (parts of) Element Model API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(at this moment it only shows child entity relations)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Architecture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JFace Tree Viewer + SWT Tree for rendering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Content and Label Provider retrieve information from Element Model API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Content Provider can be equipped with Filter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Features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Filter can be exchanged at runtime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Roots can be set dynamically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Refreshes on model changes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TODOs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Refresh if model added or removed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More navigation paths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19040" y="676440"/>
          <a:ext cx="3256200" cy="61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676440"/>
                    <a:ext cx="3256200" cy="61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Generic Data Model Tree Viewer - Screensho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858160" cy="5133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968720" y="4836960"/>
            <a:ext cx="4043520" cy="1447920"/>
          </a:xfrm>
          <a:prstGeom prst="wedgeRectCallout">
            <a:avLst>
              <a:gd name="adj1" fmla="val -47879"/>
              <a:gd name="adj2" fmla="val -125439"/>
            </a:avLst>
          </a:prstGeom>
          <a:solidFill>
            <a:srgbClr val="ffffff">
              <a:alpha val="80000"/>
            </a:srgbClr>
          </a:solidFill>
          <a:ln w="38160">
            <a:solidFill>
              <a:srgbClr val="1562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generic tree 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4 projects =&gt; 8 registered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no filter 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special (diagnostic) label provider shows unique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folder icon shown, if child entities ex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000" y="5111640"/>
            <a:ext cx="2814480" cy="706680"/>
          </a:xfrm>
          <a:prstGeom prst="wedgeRectCallout">
            <a:avLst>
              <a:gd name="adj1" fmla="val -1833"/>
              <a:gd name="adj2" fmla="val -206402"/>
            </a:avLst>
          </a:prstGeom>
          <a:solidFill>
            <a:srgbClr val="ffffff">
              <a:alpha val="80000"/>
            </a:srgbClr>
          </a:solidFill>
          <a:ln w="38160">
            <a:solidFill>
              <a:srgbClr val="1562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Eclipse navigation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example: workspace with 4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744480"/>
            <a:ext cx="3127320" cy="934920"/>
          </a:xfrm>
          <a:prstGeom prst="wedgeRectCallout">
            <a:avLst>
              <a:gd name="adj1" fmla="val 7564"/>
              <a:gd name="adj2" fmla="val 161203"/>
            </a:avLst>
          </a:prstGeom>
          <a:solidFill>
            <a:srgbClr val="ffffff">
              <a:alpha val="80000"/>
            </a:srgbClr>
          </a:solidFill>
          <a:ln w="38160">
            <a:solidFill>
              <a:srgbClr val="1562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roject, file and folder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filter to show only nodes supplied by own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95400">
              <a:lnSpc>
                <a:spcPct val="90000"/>
              </a:lnSpc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icons depend on data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Selena Framework – Our 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Generic Data Model Tree View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3c83"/>
                </a:solidFill>
                <a:latin typeface="Arial"/>
              </a:rPr>
              <a:t>Filter Concep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Filtered Data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Programming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26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dbfd7"/>
                </a:solidFill>
                <a:latin typeface="Arial"/>
              </a:rPr>
              <a:t>Questions, Discussion, ..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1:36:09Z</dcterms:created>
  <dc:creator>Christian Brand</dc:creator>
  <dc:description/>
  <dc:language>en-US</dc:language>
  <cp:lastModifiedBy>d025638</cp:lastModifiedBy>
  <cp:lastPrinted>2000-12-09T23:53:19Z</cp:lastPrinted>
  <dcterms:modified xsi:type="dcterms:W3CDTF">2002-06-24T07:45:35Z</dcterms:modified>
  <cp:revision>265</cp:revision>
  <dc:subject>PowerPoint Template</dc:subject>
  <dc:title>TogetherSoft's Node System</dc:title>
</cp:coreProperties>
</file>